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B6EC-72C2-41E7-8614-F98D97FB7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0BEE-AA88-4B82-AB58-933EC4901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31C-07A7-4F5C-94CE-A91C7714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FB7-DF49-4565-88F0-8F22EB32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D9B-E601-4900-B8A3-496CA495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707-E946-4DFF-9765-71BFCA79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8287-A7C2-4C26-8761-54335D56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4C54-C3FA-402C-89CF-E6C29CCB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5ADA-0448-4973-BDFD-3D708723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EB01-DC61-42F2-94E6-9955AB7F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EC05-76BD-4C7A-A2A8-94E56202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67DF-93FB-4C56-9FE7-FE5814B2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98A6-4467-4603-82A7-B9E91986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308-9588-417F-96EE-B6D1D053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088E-15CB-4154-ABE4-50DD32AF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AACB-A543-460B-B52E-E6D64B69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7CFA-7BA3-4D0E-8516-343ED998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85C6-182F-4295-9BDB-1A6502F1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46E7-441F-49A4-8067-547EEC02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88A-C059-4498-9014-A0D04CCE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481-1BB5-4049-B37B-D0D8D172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053-EB29-4218-A088-31E85926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91E-CDD5-4503-A9AB-24A665A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F7F-BDCB-47F9-BDF1-9E2EAD52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BE3-8612-4547-AE35-A2034389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990-5C29-448C-9B5D-8780057C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CB7-5A88-4EBD-A058-DE3588B9A6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5D8A-0481-4917-ACB4-68B4CA6052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ection 1: Chemis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ction with ac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with acid. The ability of a substance to react with acid is a chemical prope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some substances that react with acids such as vine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you drink aci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the side of a Coke 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rro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rro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slow chemical change that occurs when a metal reacts with oxygen from the air.  This chemical reaction forms a new substance called an 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kinds of corro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corro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ver tar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s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chemical change that involves iron, oxygen from the air, water, and salt or other minerals that may be dissolved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we normally see ru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we do to prevent ru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uminum Corro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minum has a chemical property similar to iron in that it reacts with oxygen to form an 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uminum oxid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forms is strong and it is unaffected by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lver tarnis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ike iron and aluminum, silver does not react with oxygen but it does react with sulph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lphur is foun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d 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ver sulphide causes silver to develop a black co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ack layer is annoying but it can be removed by polishing the sil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venting Corro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ways to prevent corro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ing metal prevents oxygen from getting at the 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stic instead of st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hodic prot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using one metal to attract corrosion (oxygen) from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quantitative physical property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s heavier: a 12 inch bar of gold or a pillow full of feath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12 inch bar of gold weighs more than a pillow full of feathers even though the pillow takes up more space?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 is more dense.  It has more matter per unit volu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ns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amount of matter per unit volume of that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(D) = Mass (m) / Volume (V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know any two of the three variables (D, m, V), you can solve for the thi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= D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= m /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ple density question #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rock has a mass of 49 g and occupies a  volume of 7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at is the dens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m /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49 g / 7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7.0 g/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t 1 –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ything that has mass and takes up sp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matter chan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 – e.g. snow melting, water boi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lve these sample density question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   An object has a mass of 250 g and occupies a volume of 14.5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at is the dens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   A piece of wood occupies a volume of 46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it has a mass of 100 g.  What is the density of the wo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   An unknown metal has a density of 2.6g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 mass of 15 g.  How much volume does this piece of meal occu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    A sample of a particular liquid has a density of  6.85 kg/L and it occupies a volume of 3.4 L.  How much does this particular sample weig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 to question #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m/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250 g/14.5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17.24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 to question #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m/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100g / 46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2.17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 to question #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m/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m/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15g / 2.6 g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5.77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 to question #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= m/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= D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= 6.85 kg/L x 3.4 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= 23.29 k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* Note that volume can be expressed as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l, or even 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pproximate Densities of Some Common Material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s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g/m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/cm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v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i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7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od (birch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lle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ter is denser than ice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this so impor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means that ice floats in water instead of sinking.  Think of the poor fish if this was not the c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ice less dense than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ater freezes, it expands which means that the same mass of water is spread over a greater volu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questions 2, 3, 4 on page 25 of the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M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MIS (Workplace Hazardous Material Information Syst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symbols are found on products to indicate exactly why and to what degree a product is danger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signment #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simple map of your home and indicate where you would have found products with some of the hazardous household product symbols that we have discus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perties of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 mean by the properties of an objec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pert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s simply a characteristic that we can use to describe some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hysical properti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emical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7 Physical and Chemical Chang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rning candle – what happe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candle burns, the wax melts (a solid becomes a liquid), and then it hardens (a liquid becomes a solid).  These are physic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x also combusts producing heat and light.  This chemical change involves the wax becoming carbon dioxide, water, and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 physical chang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cha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substance involved remains the same substance, even though it may change state or form.  When candle wax melts, it is still w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of state – melting, boiling, freezing, condensing, and dissolving – are physical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hysical changes are easy to re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 chemical chang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chemical change, the original substance is changed into one or more different substances that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candle wax melts, some of the wax particles combine with oxygen to produce water vapour, carbon dioxide, heat, and light, but it is still wax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mical change always involves the production of new substances.  Examples include burning, cooking, and ru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hemical changes are difficult to re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ues That a Chemical Change Has Happened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colour app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or light is given o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bbles of gas are fo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lid material forms in a liquid.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ipi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nge is difficult to re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questions 2 and 3 on page 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.2 Physical Properties of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hysical property does not involve a substance becoming a new sub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types of physical properties that you may want to descri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u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red, green, blue, 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ure – smooth, fine, coarse, 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te – sour, salty, sweet, 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2 Other Physical Properties of Mat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s of ma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room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, liquid, plasma, or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d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easure of the resistance of a solid to be scratched or de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lle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opposite of brittle.  Glass and dried  clay are examples of things that are brittle.  Aluminum foil is malleable.  Gold is malleable since it can be hammered into thin she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per i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cti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it can be pulled into wi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lting and boiling poin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oiling point of water? The melting point of 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ystal fo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Example, sa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lubi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ability of a substance to dissolve in a solvent such as water.  Salt is soluble while pepper is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nsi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mass per unit volu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2 Chemical Properties of Mat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mical propert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the behaviour of a substance as it becomes a new sub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bustibility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If a substance is combustible or flammable, it will burn when exposed to a flame.  A substance that will not burn is described as nonflamm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some materials that are combust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some materials that are nonflamm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 combustion, a substance reacts rapidly with oxygen and releases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may be in the form of heat and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ubstances can act as fuels.  E.g. wood, diesel oil, and kerose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bustion: The Fire Triang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e triangle is a convenient way to remember the three components of any combustion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ing any one of these makes the triangle incomplete and puts out the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21:30:06Z</dcterms:created>
  <dc:creator>cookamy</dc:creator>
  <dc:description/>
  <dc:language>en-US</dc:language>
  <cp:lastModifiedBy>amy.cook</cp:lastModifiedBy>
  <dcterms:modified xsi:type="dcterms:W3CDTF">2010-09-15T15:47:07Z</dcterms:modified>
  <cp:revision>93</cp:revision>
  <dc:subject/>
  <dc:title>Section 1: Chemistry</dc:title>
</cp:coreProperties>
</file>